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92A-CB0D-4093-BC17-404BE666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2D3-2F91-47CC-A622-5E183023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595-A1E6-483B-B543-155F45B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6E5-EC6C-474A-A933-776E2B95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7F05-A7CF-42AC-A123-6B601BDD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FAEA-FBF1-4D96-B462-BED64A95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F29B-9104-48DD-BB6E-BD363B3D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D7AB-AEB0-4EBE-9268-F567B5BA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1CF-6C29-4BAA-AD45-D55950B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8209-DC9D-4AF5-956F-1399B2B0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82A7-4D26-40E0-8342-008F5B8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3D3-810D-4C36-B7D7-505CC9B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E8C5-04CB-460C-AFE9-E74E7F2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4AB8-F779-47DF-9672-372A1E7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A625-0DC8-465E-8D44-A91B53DC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2DC-626E-4DD3-BFC6-1DB0C69B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23F5-1189-494B-B63A-3E3D3669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FFD-0E86-4665-B2C4-5C35D1A3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5BA-E2C0-475D-81E6-C8945DA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EB3-194F-4CFA-AC4C-FE682D01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A72-E9B3-4000-AA8E-D757280A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A09-77AE-495A-AEB6-F7526CF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59C-4AA8-4680-9C76-24CB895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A3D-6CC1-4683-BFBE-C4086AE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FE44-E940-4C76-927B-AB800521DD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AB56-FACF-4E8B-A8C2-5E73A42AF2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ife-threatening Emergencies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era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6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Watch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pe you enjoyed(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choke;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: Sera Da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aths caused by choking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han 4,000 deaths occur each year from ch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king are occurred when a person’s airwaves are blocked by an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3429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6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choking can be prev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and goes on the throat with the finger and thumb extend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need to remove the object that is blocking the air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 behind the victim, put your arms under the armpits, between the waste and ribcage and push gently down on the victims stoma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862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48:34Z</dcterms:created>
  <dc:creator>Kraybill Campus LMS</dc:creator>
  <dc:description/>
  <dc:language>en-US</dc:language>
  <cp:lastModifiedBy>Kraybill Campus LMS</cp:lastModifiedBy>
  <dcterms:modified xsi:type="dcterms:W3CDTF">2011-05-24T13:11:25Z</dcterms:modified>
  <cp:revision>5</cp:revision>
  <dc:subject/>
  <dc:title>Life-threatening Emergencies!</dc:title>
</cp:coreProperties>
</file>